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DCE-11A3-42D4-A3CB-1F8A7505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6E7-C78B-4357-9443-AD9237D0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4B9-32A6-47E6-96C9-B27C9C1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4D5-25A7-4562-B321-ED00B321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3A5-8104-44DC-90E7-912F3D66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35C1-468D-4895-AB8B-C9C26761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1948-7397-40AB-A109-CBFE53DF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B91D-8960-4CEE-8044-1CDFB527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FAD7-0FF7-4E29-AFB4-8F87E5C4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DC99-98D0-4812-8824-8B95EE29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F0B9-B908-4450-9FA1-524BB50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887-473E-4872-BA45-5D36818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44E-8D4A-41DD-9C0A-237DB30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7506-5AD8-40FB-A350-B3A1801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BAEF-C9ED-4FFD-A9E6-4356105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43AC-9AD9-4976-8606-1BD034F0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0A3C-C9FD-4BB7-ACF6-A9FF9D70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F1A-8B5B-4C4C-8574-993FD62C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58A-F20D-4F3E-ADE4-DB55D3A9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4D5-416B-43E0-AED5-B7695F43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330-CFFF-47E1-92B2-8BE25D2A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EEB-829C-46B9-BE27-33E38DD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778-36AF-43AD-A032-01989315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CA6-6AB3-409B-8DD0-F770F35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2C1F-D31A-4D53-B791-EA18CD94E9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0A1-160F-4A7D-8C46-99BE1F1A7D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dnpb.gov.ua/ua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l.kiev.ua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dnpb.gov.ua/ua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npb.gov.ua/ua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dnpb.gov.ua/ua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«Казка — це золоте намисто, яке впало на морське дно»</a:t>
            </a:r>
            <a:r>
              <a:rPr b="1" i="1" lang="uk-UA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зкотерапія – найбільш давній у людській цивілізації метод практичної психології і один із наймолодших методів у сучасній науковій практиці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Т. Зінкевич-Євстігнєє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Результат пошуку зображень за запитом &quot;пустий шаблон для презетації&quot;"/>
          <p:cNvPicPr/>
          <p:nvPr/>
        </p:nvPicPr>
        <p:blipFill>
          <a:blip r:embed="rId1"/>
          <a:stretch/>
        </p:blipFill>
        <p:spPr>
          <a:xfrm>
            <a:off x="0" y="3657600"/>
            <a:ext cx="2790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Державна науково-педагогічна бібліотекаУкраїни ім.В.О.Сухомлинського (</a:t>
            </a:r>
            <a:r>
              <a:rPr b="1" lang="en-AU" sz="24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https://dnpb.gov.ua/ua/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улеша Э. М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ффективность сказкотерапии в обуздании страхов детьми в возрасте 6 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[Текст] / Э. М. Кулеша, К. Курацки // Актуальні питання корекційної освіти (педагогічні науки) : зб. наук. пр. / Нац. пед. ун-т ім. М. П. Драгоманова, Кам'янець-Поділ. нац. ун-т ім. Івана Огієнка. - Кам'янець-Подільський : Медобори-2006, 2016. –  Вип. 7. Т. 2. – С. 158 – 1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зкотерапія для дітей та дорослих: методичні матеріали в допомогу бібліотекаря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// http: Херсонська обласна універсальна бібліотека //biblio.lib.kherson.ua/ru-kazkoterapiy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абрічева М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азкотерапія: кращі методики для розвитку творчого ставлення до житт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К.: Центр ресурсного розвитку М-АРТ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5486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казках я ціную те, що в них є добро і зло, адже змалечку слід виробляти гарт і до зла і не загодовувати малюка солодким і рожевим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рка Мензатю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яча письменниця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котерапі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а лікувально – педагогічного впливу. Особливо корисна для дітей, що мають емоційні порушення та порушення поведінки. Слухаючи казки  (народні, авторськ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кла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Сухомлинського), дитина не лише пізнає світ, але й налагоджує свій організм на спокійний відпочи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Казка – це шифр людської душі”</a:t>
            </a:r>
            <a:br>
              <a:rPr sz="1700"/>
            </a:b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(М. Реріх)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зкотерапія – це терапія за допомогою казки та казкового середовища (творення казки, слухання, розігрування тощ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зкотерапія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ння та обговорення ка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и роботи з казко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бирати з дитиною вже існуючу каз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увати нові кінцівки для вже існуючих каз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сти нову казку - самому а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ом з дитин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Результат пошуку зображень за запитом &quot; пустий шаблон для презетації&quot;"/>
          <p:cNvPicPr/>
          <p:nvPr/>
        </p:nvPicPr>
        <p:blipFill>
          <a:blip r:embed="rId1"/>
          <a:stretch/>
        </p:blipFill>
        <p:spPr>
          <a:xfrm>
            <a:off x="6324480" y="4746600"/>
            <a:ext cx="28195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Як має звучати казк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еї щебетливий голос мами? Чи, можливо, казка буркотливо усміхається з-під вуса як дідусь? Або ніжно шепоче, як бабуся над ліжечком? А може, твоя казка вирегочує на всю хату разом із татом? Чи котиться смішками-пересмішками між твоїх старших братиків і сестричок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ки, заховані в ошатні книжечки, мають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ій власний голос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віть якщо ти читатимеш їх тихесенько сам собі, прислухайся і зазвучить справжня жива музика Дива…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талія Марченк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Основні види казок у Казкотерапії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род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ські худож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сихокорекці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сихотерапевти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Як правильно вибрати казку залежно від віку та статі дитини</a:t>
            </a:r>
            <a:br>
              <a:rPr sz="3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утрішньоутробний період (реакція дитини на голоси та емоції батькі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 1,5 р. – сюжет казки не має великого значення. Головне – ритмічні конструкції, повтори, звуконаслідування для опанування рідної м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,5-3 р. – казки для розвитку образного мислення, пізнавального інтересу дитини, зв'язного мовлення (через переказ), збагачення словникового зап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-4 р. – казки із простими та яскравими сюжетами. Варто обговорювати емоції героїв, їх поведінку тощ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віці 4-6 років казка є основною мовою дит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 10-12 років казка – неодмінна складова світу дит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атерина Єгорушкін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азкотерапевт, письменниц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Радимо почитати:</a:t>
            </a:r>
            <a:br>
              <a:rPr sz="19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ціональна бібліотека України для дітей (</a:t>
            </a:r>
            <a:r>
              <a:rPr b="1" lang="en-AU" sz="24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http://www.chl.kiev.ua/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трище, В.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 Такі знайомі каз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Метод. посіб.: (Елементи казкотерапії в роботі з традиц. казками...) / В. Ю. Петрище; Закарпатський інститут післядипломної педагогічної освіти. – Ужгород: Видавництво Олександри Гаркуші, 2006. - 109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инкевич-Евстигнеева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. Д. Формы и методы работы со сказ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технологии института сказкотерапии / Зинкевич-Евстигнеева, Татьяна Дмитриевна; рис. И. Могутова. – СПб.: Речь, 2010. – 235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Єгорушкіна К. Країна Снігові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/ К. Єгорушкіна, С. Недериця ; муз. оформ. С. Недериці; ілюстр. П. Родрігес. – К. : Видавець ФО-П Недериця С. С., 2011. – 29 с.: ілюстр. + 1 CD. – (Музична казкотерапія для малят)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Єгорушкіна К. Будиночок з вод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/ К. Єгорушкіна, С. Недериця; муз. оформ. С. Недериці; ілюстр. М. Рудської. – К. : Видавець ФОП Недериця С. С., 2011. – 37 с. : ілюстр. + 1 CD. – (Музична казкотерапія для малят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</a:rPr>
              <a:t>Державна науково-педагогічна бібліотека України ім.В.О.Сухомлинського (</a:t>
            </a:r>
            <a:r>
              <a:rPr b="1" lang="en-AU" sz="20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https://dnpb.gov.ua/ua/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Локарєва, Г. 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 Казкотерапія в підготовці соціальних педагогів до професійної діяльності: теорія і практи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: монографія / Галина Локарєва, Олена Філь ; Запоріз. нац. ун-т, держ. вищ. навч. закл. – Запоріжжя : Запоріз. нац. ун-т, 2016. – 415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олодухов В. Л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зка як один з методів активного соціально-психологічного пізнан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монографія / Солодухов В. Л. ; М-во освіти і науки України, Донбас. держ. пед. ун-т, держ. вищ. навч. закл. – Слов'янськ : Б. І. Маторіна, 2017. – 139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рчик, О. В. Казкотерапія як нова педагогічна технологі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// Проблеми сучасної педагогічної освіти : [зб. ст.]. Сер.: Педагогіка і психологія. Вип. 11 ; Ч. 1 / РВНЗ "Крим. гуманіт. ун-т" ; [редкол.: О. В. Глузман та ін.; відп. за вип. М. Я. Ігнатенко]. - Ялта : [Б. в.], 2006.  – С.7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реусенко-Кузнєцов, О. А. Казкотерапія: теоретичні основи і застосівання в освіті та соціальній роботі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/ О. А. Бреусенко-Кузнєцов. -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.3-12.  Наукові студії із соціальної та політичної психології : зб. ст. Вип. 20 (23) / Ін-т соц. та політ. психології АПН України ; [редкол.: С. Д. Максименко (голов. ред.) та ін.]. – Київ : [б. в.]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ірченко, О. П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Порівняльний аналіз змісту казки та комп’ютерної гри як фактору впливу на емоційну сферу молодших школярі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/ О. П. Гірченко // Актуальні проблеми психології : альбом / Інститут психології ім. Г. С. Костюка АПН України (Київ). – Київ : [б. в.], 2007. -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. 8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Психологічна теорія і технологія навчання, Вип. 3. – С. 141 – 146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олодухов, В. 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 Метафоричність казки як засіб активного соціально-психологічного навчан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: автореф. дис. ... канд. психол. наук : 19.00.07 / Солодухов Василь Леонідович; Слов'ян. держ. пед. ін-т. – Івано-Франківськ : [Б. в.], 2007. – 19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іль О.В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зкотерапія в соціально-педагогічній практиці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/ О. В. Філь // Вісник Запорізького національного університету : [зб. наук. ст.] / Держ. вищ. навч. закл. "Запоріз. нац. ун-т" . – Запоріжжя : [б. в.], 2008. – С. 225-230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Державна науково-педагогічна бібліотека України ім.В.О.Сухомлинського (</a:t>
            </a:r>
            <a:r>
              <a:rPr b="1" lang="en-AU" sz="24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https://dnpb.gov.ua/ua/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еркач, О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іка творчості: казкотерапія на допомогу вчителю, вихователю, практичному психологу 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вч.-метод. посіб. / Оксана Деркач ; [відп. за вип. Г. С. Тарасенко]. – Вінниця: ВДПУ, 2010. – 43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.   Політанська, С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користання засобів казкотерапії у вихованні дітей старшого дошкільного ві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С. Політанська // Науковий вісник Чернівецького університету : зб. наук. пр. / Чернів. нац. ун-т ім. Юрія Федьковича. – Чернівці : Чернівецький нац. ун-т, 2011. –  Вип. 549 : Педагогіка та психологія. – С. 139-145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тавицька  О. Г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хнології казкотерапії у практиці психологічного консультуванн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О. Г. Ставицька // Психологічні перспективи / Волин. нац. ун-т ім. Лесі Українки, Ін-т соц. та політ. психології НАПН України. – Луцьк : Волин. нац. ун-т ім. Лесі Українки, 2012. –  Вип. 19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1. Клименко Н. Г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Казкотерапевтичні технології в сучасній практиці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Н. Г. Клименко // Проблеми сучасної психології: зб. наук. пр. Кам'янець-Подільського нац. ун-ту ім. І. Огієнка, Ін-ту психології ім. Г. С. Костюка НАПН України / Кам'янець-Поділ. нац. ун-т ім. Івана Огієнка. - Кам'янець-Подільський : Аксіома, 2013. –  Вип. 19. – С. 223 – 239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Державна науково-педагогічна бібліотека України ім.В.О.Сухомлинського (</a:t>
            </a:r>
            <a:r>
              <a:rPr b="1" lang="en-AU" sz="24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https://dnpb.gov.ua/ua/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ідлипна, 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Казкотерапія як еффективний метод психокорекції в роботі практичного психоло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/ Підлипна Л. //Збірник наукових праць: філософія, соціологія, психологія. Вип. 18. Ч. 1 / М-во освіти і науки, молоді та спорту України, ДВНЗ "Прикарпат. нац. ун-т ім. Василя Стефаника" ; [редкол. : О. А. Ліщинська (голова редкол.), В. К. Ларіонова, Р. А. Арцишевський та ін.; голов. ред. В. М. Головчак; ред. Р. Боднар]. – Івано-Франківськ: Прикарпат. нац. ун-т імені Василя Стефаника, 2013.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203 – 2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Жебєлєва, П. В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Казкотерапія як засіб психологічної допомоги особистості 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Жебєлєва П.В.  \\Вісник післядипломної освіти : зб. наук. пр. Вип. 7 (20) / Нац. акад. пед. наук України. Держ. вищ. навч. закл. "Ун-т менеджменту освіти" ; [голов. ред.: В. В. Олійник; редкол.: Т. Є. Бойченко (заст. голов. ред.) та ін.]. – К.: Атопол, 2012 –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284 – 29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4. 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мук, 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  Формування міжособистісного спілкування дітей-сиріт засобами казкотерапії 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] / О. Смук // Навчання і виховання обдарованої дитини: теорія та практика: зб. наук. пр. / НАПН України, Ін-т психології ім. Г. С. Костюка НАПН України. – К. : Ін-т обдарованої дитини, 2012. –  Спецвип. № 3'2012 (9). – С. 182 – 19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агач, Г.М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Дивосвіт педагогічного красномовства В. О. Сухомлинського: мистецтво логокреації (казкотерапії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Галина Сагач; комунал. вищ. навч. закл. "Херсон. акад. неперерв. освіти" Херсон. обл. ради . – Херсон : Херсонська академія неперервної освіти, 2015. – 39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6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айданюк, І. 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  Дитячий садок. Валеологія в казка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Інна Майданюк; ред. рада: М. Мосієнко [та ін.]. – К. : Ред. газет з дошкіл. та початкової освіти, 2014. – 117 с.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0-04-29T12:39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